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489A-6DB5-437C-ABA1-D5396013B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56BC-B39D-493A-BEF6-D5829E2A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E226-6536-4E7B-A84E-78FA77859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E96D-7EC2-491A-8162-39D1420DC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3629-1532-4760-8AB3-E6A36F83C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45B8-6E1A-4CFC-B31B-BF944526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1AA5-AA79-477B-974E-636795F8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F899D-9A00-4445-92D9-24C4EA57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E88A-4978-490D-B27E-19533912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DE977-903B-4CFD-8E40-0681DD06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EAC4-8951-4698-B80F-8E0C1DB2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BD0F-2424-4124-8120-EC590231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8C14-E793-4273-A00B-37A4A773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7F9E2-8336-4226-98A8-FC0E2934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9017-8425-4315-9C81-93BE173F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FF560-B1C9-4073-8A35-56A1E7716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16B5E-6F7C-4461-AED6-4BE64E093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8EBC-70CF-42A7-B366-EBD57503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BF1C-6182-4FFE-81F4-A3E1597A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50C7-1EFD-489A-A85F-6D95F65C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7A17-ED96-4197-B97D-96C4D63A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D4AB-3EDB-40C0-B87A-A0B08274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CB37-2246-4242-AF00-3699C852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4D9A-DBCD-44FE-B0F2-2645B676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49A2-229E-4D66-9604-80800EBC6E8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1865-6CEB-41F1-BF43-4938987D51C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Benguiat Bk BT"/>
              </a:rPr>
              <a:t>Stand der Technik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Extra Bold"/>
              </a:rPr>
              <a:t>Was kann ein Handy von heut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enguiat Bk BT"/>
              </a:rPr>
              <a:t>Program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 Extra Bold"/>
              </a:rPr>
              <a:t>Einleitu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 Extra Bold"/>
              </a:rPr>
              <a:t>Was kann jedes Handy von heut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 Extra Bold"/>
              </a:rPr>
              <a:t>Was findet man an Menüoptionen in einem Handy von heut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 Extra Bold"/>
              </a:rPr>
              <a:t>Gefahren des Handy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 Extra Bold"/>
              </a:rPr>
              <a:t>Wie kann Mann oder  Frau sich schützen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 Extra Bold"/>
              </a:rPr>
              <a:t>Endresümee und Weitergabe an „Zukunft des Handys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b7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b7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b7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b7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b7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1" dur="1" fill="hold"/>
                                  <p:tgtEl>
                                    <p:spTgt spid="15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b7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enguiat Bk BT"/>
              </a:rPr>
              <a:t>Braucht man ein Handy nur zum Telefoniere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900000" y="1409760"/>
            <a:ext cx="7264440" cy="5448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enguiat Bk BT"/>
              </a:rPr>
              <a:t>Oder doch für mehr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68360" y="1569960"/>
            <a:ext cx="8207280" cy="615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Benguiat Bk BT"/>
              </a:rPr>
              <a:t>Was kann jedes Handy von heute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Rockwell Extra Bold"/>
              </a:rPr>
              <a:t>Telefonier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Rockwell Extra Bold"/>
              </a:rPr>
              <a:t>Mitteilungen verschicken und empfa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Rockwell Extra Bold"/>
              </a:rPr>
              <a:t>Telefonnummern speichern und diese wiedergeb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Rockwell Extra Bold"/>
              </a:rPr>
              <a:t>Einstellungen verändern (z.B.: Rufton(Lautstärke), usw.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Benguiat Bk BT"/>
              </a:rPr>
              <a:t>Menüoptionen eines Handys von heute (Nokia 6230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Extra Bold"/>
              </a:rPr>
              <a:t>Mitteilu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Extra Bold"/>
              </a:rPr>
              <a:t>Anruflis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Extra Bold"/>
              </a:rPr>
              <a:t>Adressbu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Extra Bold"/>
              </a:rPr>
              <a:t>Einstellu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Extra Bold"/>
              </a:rPr>
              <a:t>Galerie und Medi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Extra Bold"/>
              </a:rPr>
              <a:t>Organiz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Extra Bold"/>
              </a:rPr>
              <a:t>Programm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Extra Bold"/>
              </a:rPr>
              <a:t>Diens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796000" y="2708280"/>
            <a:ext cx="3132000" cy="2349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98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98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98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98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98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98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98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98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98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enguiat Bk BT"/>
              </a:rPr>
              <a:t>Gefahren des Handy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 Extra Bold"/>
              </a:rPr>
              <a:t>Nicht-thermische Strahlung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 Extra Bold"/>
              </a:rPr>
              <a:t>führt zu Kopfschmerzen, Gedächtnisverlust und Schlafstörung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 Extra Bold"/>
              </a:rPr>
              <a:t>beeinflusst Stabilität der Gehirnzellen und bringt Stoffwechselvorgänge in Zellen durcheinand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 Extra Bold"/>
              </a:rPr>
              <a:t>Gefahr vor allem für Jugendliche, da Gehirn noch im Wachstumsstadium befinde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enguiat Bk BT"/>
              </a:rPr>
              <a:t>Wie kann Mann oder Frau sich schütze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Rockwell Extra Bold"/>
              </a:rPr>
              <a:t>Die Handybranche hat angekündigt folgende Informationen zu veröffentlichen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Rockwell Extra Bold"/>
              </a:rPr>
              <a:t>Spezifische Absorptionsrate (SAR-Wert) des Geräts während des Telefonierens (=Strahlungsrate die der Körper aufnimmt während dem Telefonieren) und eine Einstufung in „gering, mittel und stark“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Rockwell Extra Bold"/>
              </a:rPr>
              <a:t>Da selbst bei geringer Strahlung Schäden davongezogen werden können wird eine Grenze von 0,2 Watt/kgverlangt. Dies ist technisch möglich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enguiat Bk BT"/>
              </a:rPr>
              <a:t>Endresüm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 Extra Bold"/>
              </a:rPr>
              <a:t>Handys sind ständige Begleiter und dienen uns mit ihrem Fortschritt nicht nur um von A nach B zu telefonieren, sondern lassen uns stets die neuesten News zu empfangen. Was jedoch in der Zukunft kommt wird Ihnen die nächste Präsentation näher bringen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 Extra Bold"/>
              </a:rPr>
              <a:t>Danke für ihr Interes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45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9T06:33:14Z</dcterms:created>
  <dc:creator>lkronberger</dc:creator>
  <dc:description/>
  <dc:language>en-US</dc:language>
  <cp:lastModifiedBy>Bischöfliches Gymnasium</cp:lastModifiedBy>
  <dcterms:modified xsi:type="dcterms:W3CDTF">2005-06-12T09:16:22Z</dcterms:modified>
  <cp:revision>6</cp:revision>
  <dc:subject/>
  <dc:title>Stand der Technik</dc:title>
</cp:coreProperties>
</file>